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D33-AD8B-4DB2-BD1C-4086B30E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AC5-1690-49C5-87C2-D3029594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133-1AD7-4772-BC05-D67E2156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662-7948-4F9D-86AD-2321452D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55B6-26A2-4975-9C75-0541C515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6EF4-4D3D-4737-AEC5-F99F5E24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9D56-2EF4-4055-997C-74FD3060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07BE-DF43-46E3-8D85-45EB402B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B2AE-924B-434D-96C8-334C0F4A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064D-CF7E-4605-AE55-96A6D2A7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7CBC-C364-4A27-95E2-734C2926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A72-0C28-424E-BA66-094D818B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6BB4-A1B9-4BE3-8D7E-FEA715DE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AE9B-4CD8-4814-B38C-686E160E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5276-4DDC-4892-BF00-851DA183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6BBE-B2C6-4064-86D5-185F79F5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F352-B699-4EDB-96E7-C4CF060B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402-22E4-4D4D-A23D-2CE98C27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5BB-2219-45A2-9000-A99A87D7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AD8-4909-4162-B591-C9C8AC4A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0D2-E6CB-4390-A1EE-D21D8780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22F-AB10-4D4C-8113-5454A32F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9C6-CA74-4FE1-BF9F-2F2962B3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DDF-B891-447D-BBE4-E4A43927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4F20-C004-40D4-B86A-7DCCB486172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D047-E7E7-4FAA-A281-4458126A7CA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3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len bought an aquarium for her bedroom.  She paid $17 for the tank, $8 for the heater, $11 for the plants and $3 for the gravel.  She also bought 4 goldfish that cost 23 cents each.  After paying for everything, she had 98 cents left to buy fish food.  The fish food was 59 cents including tax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3352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fore tax, how much did Helen pay for the tank, heater, plants and gravel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uch more did the tank cost than the he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was the total cost of the 4 goldfish, before tax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uch did Helen have left after she paid for the fish food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Helen had only $25 to spend on the aquarium before tax, list the combinations of items that she could get, not including the fish or the fish foo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21:41:39Z</dcterms:created>
  <dc:creator>127partidak</dc:creator>
  <dc:description/>
  <dc:language>en-US</dc:language>
  <cp:lastModifiedBy>127partidak</cp:lastModifiedBy>
  <dcterms:modified xsi:type="dcterms:W3CDTF">2012-01-13T21:53:05Z</dcterms:modified>
  <cp:revision>2</cp:revision>
  <dc:subject/>
  <dc:title>Information</dc:title>
</cp:coreProperties>
</file>